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73E3-0998-4BE7-B0FC-29F93DED4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38E3-E169-4E1D-AF71-11A623A29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0B40-B9C9-4602-A550-9E74B18DA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BA6D-4E55-4CE0-9BF4-A124FB4E5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20B71-4A0B-47AB-834A-22FD0497D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F6CA1-060F-4E1B-A5C7-1797ACC1F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A4206-58D0-42A5-8190-627E6C236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6EC0A-599F-4AF2-A7B0-16F553E4B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375A4-4145-4B0E-A0DB-8123FC211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16667-F8C2-4E95-9674-7E75A9CD0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9D1B9-61BB-4899-A3BA-2F116C7B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111D-3D9B-40A0-895E-602B61554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A918F-827D-4B8B-867C-4DB70D69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D7DA7-EAF4-4D9B-A84D-F7C92EEC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590F3-A84B-4D11-A615-1BE970848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CE20C-B474-4C03-B1CF-0FE588F48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8D26D-9B7A-4F10-A1FE-07FE58A9E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66F91-5006-4FE2-A152-1555DF8C5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48EF6-7B06-4914-B976-C2D0CEAB6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B6E94-C409-48F1-B22A-9A1706FA0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BE842-CFBC-482A-B0B1-FC52FC5D6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C629F-E35D-4CD1-B5B2-9EA84C76F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3B9A-A5D9-43F2-9C38-F6EE7C290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497D4-5D0E-4A6B-A5A2-B5562C04C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D4736-0A06-4B25-8AAB-4CFDD16E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8C8B2-F0A5-407F-9D77-3F797869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89CF9-1329-471D-B43B-4D6D632C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77875-1BD8-493A-9E7B-21A019968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2B049-CF32-4843-A990-C44ED464E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72CDE-58FB-48D3-B3F1-4FC31FA69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72858-8F85-420D-B268-C9C88E94C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DAFD7-B598-4895-8EEE-006C63CD8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E3286-A824-48CC-948A-5755D278D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A301-2B90-4F81-A6BB-33DAFCE6F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8042F-C66A-47D6-9AF6-C3CF8DAE6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EE210-C1B9-4D78-BBF0-6D162E815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EB786-0170-4A7B-B56F-C8A31B01A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86CBB-DA3D-4D7B-9479-CD0B966F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E23B7-0BCC-4F9A-A824-06F83442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376E5-A8F0-4398-91A3-DAC07F08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12FD1-C7D3-47B1-ABC9-992728499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38842-923F-4DC5-AE27-D1D2DE8F7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0D760-FEAE-4C1A-9B75-F2D333B3A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2209-2BD6-4BBF-AC60-396B28FCB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CFAD-F0C1-4884-B1DE-D77DD1DD3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B040-37AA-4388-AAEE-B857BE83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3968-50C6-4A8B-A6CC-DBCC8520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3BBB-C2CE-4A51-8129-7A0E73F8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7A403-7845-40A2-8A5D-332A0AD682B3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DB1A7-AD0F-42A6-B7A9-7AEAE0EB232A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77B11-CF7A-43A4-80DE-39D53141F5FC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59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Freeform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Freeform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431E5-DDD6-48C1-A9F6-9FE2535E7FEB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1" descr=""/>
          <p:cNvPicPr/>
          <p:nvPr/>
        </p:nvPicPr>
        <p:blipFill>
          <a:blip r:embed="rId1"/>
          <a:stretch/>
        </p:blipFill>
        <p:spPr>
          <a:xfrm>
            <a:off x="291960" y="974880"/>
            <a:ext cx="8242560" cy="251136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24000" y="4005360"/>
            <a:ext cx="8642160" cy="1125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Учитель физики МБОУ «СОШ № 2 с УИОП» г.Лысьв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Фаткуллина Гульнара Аухатовн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530280" y="396720"/>
            <a:ext cx="7864560" cy="11700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533160" y="1844280"/>
            <a:ext cx="78548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2"/>
          <a:srcRect l="3295" t="3907" r="22035" b="18947"/>
          <a:stretch/>
        </p:blipFill>
        <p:spPr>
          <a:xfrm>
            <a:off x="642960" y="1857240"/>
            <a:ext cx="750240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530280" y="396720"/>
            <a:ext cx="7864560" cy="11700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533160" y="1844280"/>
            <a:ext cx="78548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Демоверсии, спецификации, кодификаторы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Формулы по физике 7-9 классы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Краткий справочный материал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493560" y="493560"/>
            <a:ext cx="7864560" cy="10242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33160" y="1844640"/>
            <a:ext cx="7854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рс «ГИА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1" name="Picture 5" descr=""/>
          <p:cNvPicPr/>
          <p:nvPr/>
        </p:nvPicPr>
        <p:blipFill>
          <a:blip r:embed="rId2"/>
          <a:srcRect l="0" t="10743" r="24232" b="23829"/>
          <a:stretch/>
        </p:blipFill>
        <p:spPr>
          <a:xfrm>
            <a:off x="168120" y="1928880"/>
            <a:ext cx="897588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530280" y="755640"/>
            <a:ext cx="7864560" cy="110340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533160" y="2060640"/>
            <a:ext cx="78548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4" name="Picture 5" descr=""/>
          <p:cNvPicPr/>
          <p:nvPr/>
        </p:nvPicPr>
        <p:blipFill>
          <a:blip r:embed="rId2"/>
          <a:stretch/>
        </p:blipFill>
        <p:spPr>
          <a:xfrm>
            <a:off x="971640" y="1989000"/>
            <a:ext cx="712944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530280" y="755640"/>
            <a:ext cx="7864560" cy="11034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533160" y="2060640"/>
            <a:ext cx="78548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2"/>
          <a:stretch/>
        </p:blipFill>
        <p:spPr>
          <a:xfrm>
            <a:off x="900000" y="1989000"/>
            <a:ext cx="64803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Апробация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1806480" y="1935000"/>
            <a:ext cx="55310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AutoShape 6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3" name="Рисунок 6" descr=""/>
          <p:cNvPicPr/>
          <p:nvPr/>
        </p:nvPicPr>
        <p:blipFill>
          <a:blip r:embed="rId1"/>
          <a:stretch/>
        </p:blipFill>
        <p:spPr>
          <a:xfrm>
            <a:off x="576360" y="1052640"/>
            <a:ext cx="80992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Чем обусловлен выбор курса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дготовка к итоговой аттестации должна носить системный характер. По каждой теме необходимо дать краткий справочник - конспект (основные определения, формулы, законы и пр.), примеры с решениями, тренировочные упражнения (на базовом и повышенном уровнях) и тест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облемы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неумение выполнять операции с переводом единиц  измерени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низкий процент верно решивших количественные и качественные задачи, а большинство вообще не приступали к решению этих задач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проблемы оформления решений в заданиях с развернутым ответом: многословность пояснения очевидных фактов, небрежность работы с формулами, ошибки при математических расчетах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21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зможности  </a:t>
            </a: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Google Form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395280" y="1143000"/>
            <a:ext cx="828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ю данного сервиса возможн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ть анкетирование учеников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ть тестирование учеников для контроля и проверки их знаний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стро обработать результаты анкетирования или тестировани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Достоинства </a:t>
            </a:r>
            <a:r>
              <a:rPr b="1" lang="en-US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Google Classroom</a:t>
            </a:r>
            <a:r>
              <a:rPr b="1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:</a:t>
            </a:r>
            <a:r>
              <a:rPr b="1" lang="en-US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50560" y="1125360"/>
            <a:ext cx="84978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правильности выполнения заданий осуществляется автоматически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ивность проверки знаний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увидеть сколько раз ученик выполнил данный тест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строе создание тестов и разного числа вариантов, автоматическая генерация заданий. Исключается списывани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изменить задания, добавить свои задани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озможность группировать задания по темам, выкладывать информацию в любой форм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озможность ограничить доступ к работе по времен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Недостатки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уп к сети Интернет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ение ПК каждому ученику на урок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каждого ученика обязательн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533160" y="2204640"/>
            <a:ext cx="7854840" cy="27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7" name="Заголовок 1" descr=""/>
          <p:cNvPicPr/>
          <p:nvPr/>
        </p:nvPicPr>
        <p:blipFill>
          <a:blip r:embed="rId1"/>
          <a:stretch/>
        </p:blipFill>
        <p:spPr>
          <a:xfrm>
            <a:off x="438120" y="182520"/>
            <a:ext cx="7888320" cy="11700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pic>
        <p:nvPicPr>
          <p:cNvPr id="219" name="Picture 5" descr=""/>
          <p:cNvPicPr/>
          <p:nvPr/>
        </p:nvPicPr>
        <p:blipFill>
          <a:blip r:embed="rId2"/>
          <a:srcRect l="11737" t="0" r="3038" b="18839"/>
          <a:stretch/>
        </p:blipFill>
        <p:spPr>
          <a:xfrm>
            <a:off x="0" y="1440000"/>
            <a:ext cx="9156600" cy="52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В самой структуре ОГЭ содержится указание на то, как можно выстроить подготовку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уществующий кодификатор позволяет разбить материал на несколько крупных тематических блоков, выстроив повторение по содержательным (механика, электричество, оптика, атомная физика и т.д.) линиям. Такой подход будет способствовать формированию более прочных знаний и, как следствие, более уверенному поведению выпускника на экзамене вне зависимости от того, в какой форме экзамен будет проводитьс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530280" y="396720"/>
            <a:ext cx="7864560" cy="117000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533160" y="1844280"/>
            <a:ext cx="78548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водное занят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еханические явлен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епловые явлен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Электромагнитные явлен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изика атома и атомного ядр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5T02:54:54Z</dcterms:created>
  <dc:creator>Лиля</dc:creator>
  <dc:description/>
  <dc:language>en-US</dc:language>
  <cp:lastModifiedBy>User</cp:lastModifiedBy>
  <dcterms:modified xsi:type="dcterms:W3CDTF">2021-11-23T19:29:51Z</dcterms:modified>
  <cp:revision>50</cp:revision>
  <dc:subject/>
  <dc:title>Использование сервиса Google Forms для организации контроля знаний обучающихся</dc:title>
</cp:coreProperties>
</file>